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981D-F366-4741-A777-353268C9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952-7708-47F0-904A-77A3056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F44-5DCB-4885-977E-171E96C7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3FA-A163-491B-BCA1-E8BA9583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7B4-9D64-4B47-96A4-49C30D2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2BE-499F-43F9-AD89-37A24DE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D75-2982-4158-85E4-D2E20529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2AB-8A67-4729-B25A-3CCD1E2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BA5-AE4A-4E0D-A919-8697907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EE2-6A5B-4982-B868-3B4157E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3A6-84EC-4201-927F-60A3AC2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84D-1950-4DE2-A561-0A12807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792F-A5C8-430C-9E81-F5B64519C5A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20312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oubles du spectre autistique : partie prat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lace des compétences sociales dans le projet de l'élève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4271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mpétences sociales = une pri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mpétences sociales = des objectifs en s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utres adaptation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tégo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préhension des consig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'apprentissage par essai / err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ttention aux situations de recherche où l'enfant est se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ratégies de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pports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é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318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er les intérêts restre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u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ser les élève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sins animés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 petit frère de la l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 ami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ttérature de jeunesse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lo l'aut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scar et ses super pou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psilon, un enfant extra-ordi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etite casserole d'Ana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ens avec les partenaire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rvices de s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A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r l'espace et le temp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emps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mploi du temps vis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ticiper et visualiser un ch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voir l'at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voir les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voir des moments de détente ou de re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poser d'une minuterie, d'un timer ou d'un sab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r l'espace et le temp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space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ace de l'élè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ant pour la sieste des pet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pace de rep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pter les moyens de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2786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nous, les neurotyp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s élèves T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eiller aux perceptions sensori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s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nsibilité à la dou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ception parfois frag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venir et gérer les c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pérer les éléments déclench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éer un coin de re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tiliser des renforcements positifs 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 renforcer que les réus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médiatement après le comportement souha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er les intérêts de l'enf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er du renforcement matériel vers le renforcement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15:37:17Z</dcterms:created>
  <dc:creator/>
  <dc:description/>
  <dc:language>en-US</dc:language>
  <cp:lastModifiedBy/>
  <cp:revision>1</cp:revision>
  <dc:subject/>
  <dc:title/>
</cp:coreProperties>
</file>